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FE8-F9F6-4CDE-BB09-4EFDCAE8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CCB-9531-4A66-B392-9D13A3E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D10-8357-4D6B-ADE1-B99F4A20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957-CC74-45FB-B863-1C82BE22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AC69-8C6B-482B-A928-624E16C4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7C22-B087-4483-863B-3E2A22B2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F14F-B3B9-470C-BC0D-9C710094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0B66-EB3B-4CCF-BEE0-E57F34FB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E5C1-AD50-43CE-AE63-7AACD8A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B67-9856-4A11-9A56-4F1D9A3A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1ECB-88AE-451A-8AB6-6102810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3D5-9F05-43CF-B9D4-A920B85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C286-2FAE-4A02-A8B3-9485377B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7EFF-645B-47CA-B263-4CEDEB75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18FD-D5D5-49D2-A4F3-573D11BD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6500-EE6A-4B74-A8C3-CFE8AFF0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736C-1C73-4AB9-91F6-A422729F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A70-59D0-4519-8D32-E16C26F2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597-F57A-4A38-A446-B673C31E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65A-F87A-425D-9E3B-7F52D4F9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021-36EB-4342-A1B9-0791F6E5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7C1-6FF0-466E-9A75-3F5E489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715-F309-4ECD-ACED-C74246FA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579-C13F-42F5-96C3-1D77213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09B3-BD8B-4A5A-AFCC-F48C8306672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73F9-F1FA-4EC1-8BDF-2F40EC0865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Rectángulo"/>
          <p:cNvSpPr/>
          <p:nvPr/>
        </p:nvSpPr>
        <p:spPr>
          <a:xfrm>
            <a:off x="571680" y="357120"/>
            <a:ext cx="75722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70c0"/>
                </a:solidFill>
                <a:latin typeface="Arial"/>
              </a:rPr>
              <a:t>PROGRAMA ANALITICO Y/O DE EXAMEN</a:t>
            </a: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CuadroTexto"/>
          <p:cNvSpPr/>
          <p:nvPr/>
        </p:nvSpPr>
        <p:spPr>
          <a:xfrm>
            <a:off x="366120" y="0"/>
            <a:ext cx="78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 CuadroTexto"/>
          <p:cNvSpPr/>
          <p:nvPr/>
        </p:nvSpPr>
        <p:spPr>
          <a:xfrm>
            <a:off x="214200" y="1071720"/>
            <a:ext cx="892980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70c0"/>
                </a:solidFill>
                <a:uFillTx/>
                <a:latin typeface="Arial"/>
              </a:rPr>
              <a:t>Bolilla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Naturaleza Química- Propiedades Generales- Nomenclatura y Clasificacion- Coenzimas, importancia de las Vitaminas. Grupos Prostéticos. Compartimental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lejo ES- Actividad Enzim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Unidad de enzima- Actividad específica- Actividad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es que afectan la actividad enzimatica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[Enzima]- pH – T- [S], Ecuación de Michaelis Menten y Ecuación de Lineweaver Burk-  Inhibición de las enzimas, competitiva y no Competi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ón Enzim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zimas alostéricas (propiedades y cinética)- Regulación Covalente-Zimóg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enzima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iedades e importa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Comic Sans MS"/>
              </a:rPr>
              <a:t>¿Cómo se clasifican las enzimas?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2. 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17480" y="2076480"/>
            <a:ext cx="27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39640" y="5229360"/>
            <a:ext cx="2017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2.7.1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138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T1107"/>
          <p:cNvPicPr/>
          <p:nvPr/>
        </p:nvPicPr>
        <p:blipFill>
          <a:blip r:embed="rId1"/>
          <a:srcRect l="36406" t="62681" r="14851" b="28994"/>
          <a:stretch/>
        </p:blipFill>
        <p:spPr>
          <a:xfrm>
            <a:off x="3143160" y="2214720"/>
            <a:ext cx="6002280" cy="874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T1107"/>
          <p:cNvPicPr/>
          <p:nvPr/>
        </p:nvPicPr>
        <p:blipFill>
          <a:blip r:embed="rId2"/>
          <a:srcRect l="37399" t="74977" r="23467" b="16180"/>
          <a:stretch/>
        </p:blipFill>
        <p:spPr>
          <a:xfrm>
            <a:off x="3152880" y="3571920"/>
            <a:ext cx="5983200" cy="1000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T1107"/>
          <p:cNvPicPr/>
          <p:nvPr/>
        </p:nvPicPr>
        <p:blipFill>
          <a:blip r:embed="rId3"/>
          <a:srcRect l="36406" t="88606" r="3389" b="4119"/>
          <a:stretch/>
        </p:blipFill>
        <p:spPr>
          <a:xfrm>
            <a:off x="2571840" y="5357880"/>
            <a:ext cx="6584760" cy="857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468360" y="1928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LI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876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ISO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87440" y="50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LIG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84360" y="2360520"/>
            <a:ext cx="1871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iruvato des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4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73120" y="3922560"/>
            <a:ext cx="237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Fumarasa ó malato isom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5.2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701640" y="5500800"/>
            <a:ext cx="1727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iruvato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6.4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428760" y="3571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3. HIDROL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717480" y="933480"/>
            <a:ext cx="259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Carboxipeptidas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3.4.17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3" descr="T1107"/>
          <p:cNvPicPr/>
          <p:nvPr/>
        </p:nvPicPr>
        <p:blipFill>
          <a:blip r:embed="rId4"/>
          <a:srcRect l="36461" t="44470" r="247" b="43358"/>
          <a:stretch/>
        </p:blipFill>
        <p:spPr>
          <a:xfrm>
            <a:off x="3143160" y="874800"/>
            <a:ext cx="60008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68360" y="928800"/>
            <a:ext cx="8229600" cy="5184720"/>
          </a:xfrm>
          <a:prstGeom prst="rect">
            <a:avLst/>
          </a:prstGeom>
          <a:solidFill>
            <a:srgbClr val="d9d9d9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TERCIARIA Y CUATERN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IO DE UNION AL SUSTRATO (Sitio Activ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iones no Covalentes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Puente de hidrógeno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Hidrofób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Electrost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ECESITAN DE FACTORES NO ENZIMATICOS: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inorgá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metales) y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orgán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Coenzim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PECIFICIDAD DE SUSTRATO. Estereoespecificidad y especificidad geomét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N REGULABLES: la síntesis de la proteína-enzima, su actividad y degrad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84807"/>
                </a:solidFill>
                <a:latin typeface="Comic Sans MS"/>
              </a:rPr>
              <a:t>Características de las enzim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Reacción catalizada por una Enz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uno"/>
          <p:cNvPicPr/>
          <p:nvPr/>
        </p:nvPicPr>
        <p:blipFill>
          <a:blip r:embed="rId1"/>
          <a:srcRect l="0" t="6417" r="65664" b="42041"/>
          <a:stretch/>
        </p:blipFill>
        <p:spPr>
          <a:xfrm>
            <a:off x="250920" y="2133720"/>
            <a:ext cx="2448000" cy="1224000"/>
          </a:xfrm>
          <a:prstGeom prst="rect">
            <a:avLst/>
          </a:prstGeom>
          <a:ln w="0">
            <a:noFill/>
          </a:ln>
        </p:spPr>
      </p:pic>
      <p:cxnSp>
        <p:nvCxnSpPr>
          <p:cNvPr id="157" name="AutoShape 9"/>
          <p:cNvCxnSpPr/>
          <p:nvPr/>
        </p:nvCxnSpPr>
        <p:spPr>
          <a:xfrm>
            <a:off x="2999880" y="4500360"/>
            <a:ext cx="715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AutoShape 10"/>
          <p:cNvCxnSpPr/>
          <p:nvPr/>
        </p:nvCxnSpPr>
        <p:spPr>
          <a:xfrm flipV="1">
            <a:off x="4572000" y="4580640"/>
            <a:ext cx="9151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Text Box 14"/>
          <p:cNvSpPr/>
          <p:nvPr/>
        </p:nvSpPr>
        <p:spPr>
          <a:xfrm>
            <a:off x="5219640" y="5143680"/>
            <a:ext cx="149544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6858000" y="5157720"/>
            <a:ext cx="180036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27" descr=""/>
          <p:cNvPicPr/>
          <p:nvPr/>
        </p:nvPicPr>
        <p:blipFill>
          <a:blip r:embed="rId2"/>
          <a:stretch/>
        </p:blipFill>
        <p:spPr>
          <a:xfrm>
            <a:off x="-128520" y="4211640"/>
            <a:ext cx="3414600" cy="1366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5357880" y="4365720"/>
            <a:ext cx="2922480" cy="503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      +    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8"/>
          <p:cNvGrpSpPr/>
          <p:nvPr/>
        </p:nvGrpSpPr>
        <p:grpSpPr>
          <a:xfrm>
            <a:off x="3224160" y="4394160"/>
            <a:ext cx="1919160" cy="1677600"/>
            <a:chOff x="3224160" y="4394160"/>
            <a:chExt cx="1919160" cy="1677600"/>
          </a:xfrm>
        </p:grpSpPr>
        <p:sp>
          <p:nvSpPr>
            <p:cNvPr id="164" name="Text Box 13"/>
            <p:cNvSpPr/>
            <p:nvPr/>
          </p:nvSpPr>
          <p:spPr>
            <a:xfrm>
              <a:off x="3224160" y="5097960"/>
              <a:ext cx="1919160" cy="9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Complej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3765600" y="4394160"/>
              <a:ext cx="944640" cy="489600"/>
            </a:xfrm>
            <a:prstGeom prst="rect">
              <a:avLst/>
            </a:prstGeom>
            <a:solidFill>
              <a:srgbClr val="348626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0000"/>
                  </a:solidFill>
                  <a:latin typeface="Calibri"/>
                </a:rPr>
                <a:t>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9" descr="uno"/>
          <p:cNvPicPr/>
          <p:nvPr/>
        </p:nvPicPr>
        <p:blipFill>
          <a:blip r:embed="rId3"/>
          <a:srcRect l="62963" t="6417" r="6483" b="36589"/>
          <a:stretch/>
        </p:blipFill>
        <p:spPr>
          <a:xfrm>
            <a:off x="6156360" y="2060640"/>
            <a:ext cx="2087640" cy="12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uno"/>
          <p:cNvPicPr/>
          <p:nvPr/>
        </p:nvPicPr>
        <p:blipFill>
          <a:blip r:embed="rId4"/>
          <a:srcRect l="38176" t="6417" r="42720" b="37289"/>
          <a:stretch/>
        </p:blipFill>
        <p:spPr>
          <a:xfrm>
            <a:off x="3708360" y="2133720"/>
            <a:ext cx="1467000" cy="1439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1"/>
          <p:cNvSpPr/>
          <p:nvPr/>
        </p:nvSpPr>
        <p:spPr>
          <a:xfrm>
            <a:off x="2843280" y="2637000"/>
            <a:ext cx="649080" cy="43164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2"/>
          <p:cNvSpPr/>
          <p:nvPr/>
        </p:nvSpPr>
        <p:spPr>
          <a:xfrm>
            <a:off x="5364000" y="2637000"/>
            <a:ext cx="649440" cy="431640"/>
          </a:xfrm>
          <a:prstGeom prst="rightArrow">
            <a:avLst>
              <a:gd name="adj1" fmla="val 50000"/>
              <a:gd name="adj2" fmla="val 37615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4"/>
          <p:cNvSpPr/>
          <p:nvPr/>
        </p:nvSpPr>
        <p:spPr>
          <a:xfrm flipV="1">
            <a:off x="2340000" y="29239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24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6"/>
          <p:cNvSpPr/>
          <p:nvPr/>
        </p:nvSpPr>
        <p:spPr>
          <a:xfrm flipV="1">
            <a:off x="781200" y="3141360"/>
            <a:ext cx="45720" cy="1073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 flipH="1">
            <a:off x="3354480" y="465300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0"/>
          <p:cNvSpPr/>
          <p:nvPr/>
        </p:nvSpPr>
        <p:spPr>
          <a:xfrm flipH="1">
            <a:off x="4858920" y="472428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6"/>
          <p:cNvSpPr/>
          <p:nvPr/>
        </p:nvSpPr>
        <p:spPr>
          <a:xfrm>
            <a:off x="539640" y="1125360"/>
            <a:ext cx="338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LTA ESPECIF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435640" y="1125360"/>
            <a:ext cx="201600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Único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897200" y="27860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580000" y="2781360"/>
            <a:ext cx="2160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39640" y="4133880"/>
            <a:ext cx="482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SPECIFICIDAD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6588000" y="4005360"/>
            <a:ext cx="216072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upo de sus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39640" y="5516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211640" y="5516640"/>
            <a:ext cx="1944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HEX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067280" y="6222960"/>
            <a:ext cx="4897440" cy="520560"/>
          </a:xfrm>
          <a:prstGeom prst="rect">
            <a:avLst/>
          </a:prstGeom>
          <a:solidFill>
            <a:srgbClr val="ffd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84807"/>
                </a:solidFill>
                <a:latin typeface="Calibri"/>
              </a:rPr>
              <a:t>glucosa, manosa y fru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ESPECIFICIDAD DE LAS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4140360" y="1341360"/>
            <a:ext cx="1223640" cy="28728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4716360" y="285264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3274920" y="566100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5292720" y="429264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0"/>
          <p:cNvGrpSpPr/>
          <p:nvPr/>
        </p:nvGrpSpPr>
        <p:grpSpPr>
          <a:xfrm>
            <a:off x="395280" y="1413000"/>
            <a:ext cx="4535640" cy="3528720"/>
            <a:chOff x="395280" y="1413000"/>
            <a:chExt cx="4535640" cy="3528720"/>
          </a:xfrm>
        </p:grpSpPr>
        <p:pic>
          <p:nvPicPr>
            <p:cNvPr id="190" name="Picture 5" descr="fi11p8"/>
            <p:cNvPicPr/>
            <p:nvPr/>
          </p:nvPicPr>
          <p:blipFill>
            <a:blip r:embed="rId1"/>
            <a:srcRect l="0" t="0" r="54061" b="8640"/>
            <a:stretch/>
          </p:blipFill>
          <p:spPr>
            <a:xfrm>
              <a:off x="395280" y="1413000"/>
              <a:ext cx="45356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9"/>
            <p:cNvSpPr/>
            <p:nvPr/>
          </p:nvSpPr>
          <p:spPr>
            <a:xfrm>
              <a:off x="540000" y="1701720"/>
              <a:ext cx="12236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D-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7" descr="fi11p8"/>
          <p:cNvPicPr/>
          <p:nvPr/>
        </p:nvPicPr>
        <p:blipFill>
          <a:blip r:embed="rId2"/>
          <a:srcRect l="54774" t="11215" r="0" b="6847"/>
          <a:stretch/>
        </p:blipFill>
        <p:spPr>
          <a:xfrm>
            <a:off x="4356000" y="3502080"/>
            <a:ext cx="4462560" cy="3166920"/>
          </a:xfrm>
          <a:prstGeom prst="rect">
            <a:avLst/>
          </a:prstGeom>
          <a:ln w="0">
            <a:noFill/>
          </a:ln>
        </p:spPr>
      </p:pic>
      <p:sp>
        <p:nvSpPr>
          <p:cNvPr id="193" name="Oval 12"/>
          <p:cNvSpPr/>
          <p:nvPr/>
        </p:nvSpPr>
        <p:spPr>
          <a:xfrm>
            <a:off x="2500200" y="5013360"/>
            <a:ext cx="1873440" cy="184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Calibri"/>
              </a:rPr>
              <a:t>Gluc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4140360" y="476280"/>
            <a:ext cx="4752360" cy="1154160"/>
            <a:chOff x="4140360" y="476280"/>
            <a:chExt cx="4752360" cy="1154160"/>
          </a:xfrm>
        </p:grpSpPr>
        <p:sp>
          <p:nvSpPr>
            <p:cNvPr id="195" name="Text Box 13"/>
            <p:cNvSpPr/>
            <p:nvPr/>
          </p:nvSpPr>
          <p:spPr>
            <a:xfrm>
              <a:off x="4140360" y="476280"/>
              <a:ext cx="47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GLUCOSA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        GLUCOSA-6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5949720" y="692280"/>
              <a:ext cx="68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5422320" y="1052640"/>
              <a:ext cx="529200" cy="5047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6404040" y="1125360"/>
              <a:ext cx="528840" cy="505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5949720" y="765000"/>
              <a:ext cx="603720" cy="287640"/>
            </a:xfrm>
            <a:custGeom>
              <a:avLst/>
              <a:gdLst>
                <a:gd name="textAreaLeft" fmla="*/ 105480 w 603720"/>
                <a:gd name="textAreaRight" fmla="*/ 437760 w 603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4"/>
          <p:cNvGrpSpPr/>
          <p:nvPr/>
        </p:nvGrpSpPr>
        <p:grpSpPr>
          <a:xfrm>
            <a:off x="4284720" y="189000"/>
            <a:ext cx="1294920" cy="287280"/>
            <a:chOff x="4284720" y="189000"/>
            <a:chExt cx="1294920" cy="287280"/>
          </a:xfrm>
        </p:grpSpPr>
        <p:sp>
          <p:nvSpPr>
            <p:cNvPr id="201" name="Oval 18"/>
            <p:cNvSpPr/>
            <p:nvPr/>
          </p:nvSpPr>
          <p:spPr>
            <a:xfrm>
              <a:off x="428472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9"/>
            <p:cNvSpPr/>
            <p:nvPr/>
          </p:nvSpPr>
          <p:spPr>
            <a:xfrm>
              <a:off x="450036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"/>
            <p:cNvSpPr/>
            <p:nvPr/>
          </p:nvSpPr>
          <p:spPr>
            <a:xfrm>
              <a:off x="471636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1"/>
            <p:cNvSpPr/>
            <p:nvPr/>
          </p:nvSpPr>
          <p:spPr>
            <a:xfrm>
              <a:off x="4932360" y="189000"/>
              <a:ext cx="21528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2"/>
            <p:cNvSpPr/>
            <p:nvPr/>
          </p:nvSpPr>
          <p:spPr>
            <a:xfrm>
              <a:off x="514800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>
              <a:off x="5364000" y="18900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6"/>
          <p:cNvGrpSpPr/>
          <p:nvPr/>
        </p:nvGrpSpPr>
        <p:grpSpPr>
          <a:xfrm>
            <a:off x="6804000" y="19080"/>
            <a:ext cx="1728360" cy="459720"/>
            <a:chOff x="6804000" y="19080"/>
            <a:chExt cx="1728360" cy="459720"/>
          </a:xfrm>
        </p:grpSpPr>
        <p:sp>
          <p:nvSpPr>
            <p:cNvPr id="208" name="Text Box 34"/>
            <p:cNvSpPr/>
            <p:nvPr/>
          </p:nvSpPr>
          <p:spPr>
            <a:xfrm>
              <a:off x="8027640" y="190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35"/>
            <p:cNvGrpSpPr/>
            <p:nvPr/>
          </p:nvGrpSpPr>
          <p:grpSpPr>
            <a:xfrm>
              <a:off x="6804000" y="115920"/>
              <a:ext cx="1079280" cy="287280"/>
              <a:chOff x="6804000" y="115920"/>
              <a:chExt cx="1079280" cy="287280"/>
            </a:xfrm>
          </p:grpSpPr>
          <p:sp>
            <p:nvSpPr>
              <p:cNvPr id="210" name="Oval 26"/>
              <p:cNvSpPr/>
              <p:nvPr/>
            </p:nvSpPr>
            <p:spPr>
              <a:xfrm>
                <a:off x="680400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7"/>
              <p:cNvSpPr/>
              <p:nvPr/>
            </p:nvSpPr>
            <p:spPr>
              <a:xfrm>
                <a:off x="7020000" y="11592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28"/>
              <p:cNvSpPr/>
              <p:nvPr/>
            </p:nvSpPr>
            <p:spPr>
              <a:xfrm>
                <a:off x="723564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29"/>
              <p:cNvSpPr/>
              <p:nvPr/>
            </p:nvSpPr>
            <p:spPr>
              <a:xfrm>
                <a:off x="7451640" y="11592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30"/>
              <p:cNvSpPr/>
              <p:nvPr/>
            </p:nvSpPr>
            <p:spPr>
              <a:xfrm>
                <a:off x="7667640" y="11592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Oval 31"/>
            <p:cNvSpPr/>
            <p:nvPr/>
          </p:nvSpPr>
          <p:spPr>
            <a:xfrm>
              <a:off x="7883280" y="11592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8243640" y="44280"/>
              <a:ext cx="288720" cy="368280"/>
            </a:xfrm>
            <a:prstGeom prst="rect">
              <a:avLst/>
            </a:prstGeom>
            <a:solidFill>
              <a:srgbClr val="ffd9f5"/>
            </a:soli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7"/>
          <p:cNvSpPr/>
          <p:nvPr/>
        </p:nvSpPr>
        <p:spPr>
          <a:xfrm>
            <a:off x="985680" y="2214720"/>
            <a:ext cx="172908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ZIM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554280" y="2214720"/>
            <a:ext cx="2232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T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termoláb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040440" y="2206800"/>
            <a:ext cx="2817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PROTE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termoe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11280" y="1341360"/>
            <a:ext cx="266364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HOL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64000" y="1341360"/>
            <a:ext cx="23749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AP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300720" y="1338120"/>
            <a:ext cx="21607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C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5"/>
          <p:cNvSpPr/>
          <p:nvPr/>
        </p:nvSpPr>
        <p:spPr>
          <a:xfrm>
            <a:off x="3203640" y="134136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6"/>
          <p:cNvSpPr/>
          <p:nvPr/>
        </p:nvSpPr>
        <p:spPr>
          <a:xfrm>
            <a:off x="5940360" y="134136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900000" y="4797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C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4427640" y="4221000"/>
            <a:ext cx="316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ansportadores de grup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4500720" y="5661000"/>
            <a:ext cx="2663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ansportadores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 flipV="1">
            <a:off x="3419640" y="4653000"/>
            <a:ext cx="720720" cy="288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3419640" y="5300640"/>
            <a:ext cx="431640" cy="503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84807"/>
                </a:solidFill>
                <a:latin typeface="Calibri"/>
              </a:rPr>
              <a:t>VITAMINAS-CO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72"/>
          <p:cNvGrpSpPr/>
          <p:nvPr/>
        </p:nvGrpSpPr>
        <p:grpSpPr>
          <a:xfrm>
            <a:off x="826920" y="1413000"/>
            <a:ext cx="7994880" cy="439560"/>
            <a:chOff x="826920" y="1413000"/>
            <a:chExt cx="7994880" cy="439560"/>
          </a:xfrm>
        </p:grpSpPr>
        <p:sp>
          <p:nvSpPr>
            <p:cNvPr id="235" name="Text Box 30"/>
            <p:cNvSpPr/>
            <p:nvPr/>
          </p:nvSpPr>
          <p:spPr>
            <a:xfrm>
              <a:off x="826920" y="1484280"/>
              <a:ext cx="1224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Niac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2700360" y="1484280"/>
              <a:ext cx="1511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, N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4716360" y="1484280"/>
              <a:ext cx="2159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6948360" y="1773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5"/>
            <p:cNvSpPr/>
            <p:nvPr/>
          </p:nvSpPr>
          <p:spPr>
            <a:xfrm>
              <a:off x="7596360" y="14130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 G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54"/>
            <p:cNvSpPr/>
            <p:nvPr/>
          </p:nvSpPr>
          <p:spPr>
            <a:xfrm>
              <a:off x="2340000" y="17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5"/>
            <p:cNvSpPr/>
            <p:nvPr/>
          </p:nvSpPr>
          <p:spPr>
            <a:xfrm>
              <a:off x="4284720" y="17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73"/>
          <p:cNvGrpSpPr/>
          <p:nvPr/>
        </p:nvGrpSpPr>
        <p:grpSpPr>
          <a:xfrm>
            <a:off x="395280" y="2357280"/>
            <a:ext cx="8353440" cy="370800"/>
            <a:chOff x="395280" y="2357280"/>
            <a:chExt cx="8353440" cy="370800"/>
          </a:xfrm>
        </p:grpSpPr>
        <p:sp>
          <p:nvSpPr>
            <p:cNvPr id="243" name="Text Box 14"/>
            <p:cNvSpPr/>
            <p:nvPr/>
          </p:nvSpPr>
          <p:spPr>
            <a:xfrm>
              <a:off x="395280" y="2357280"/>
              <a:ext cx="208764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Riboflavina (Vit.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5"/>
            <p:cNvSpPr/>
            <p:nvPr/>
          </p:nvSpPr>
          <p:spPr>
            <a:xfrm>
              <a:off x="2916360" y="235728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, F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6"/>
            <p:cNvSpPr/>
            <p:nvPr/>
          </p:nvSpPr>
          <p:spPr>
            <a:xfrm>
              <a:off x="4859280" y="235728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>
              <a:off x="6732720" y="2572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8"/>
            <p:cNvSpPr/>
            <p:nvPr/>
          </p:nvSpPr>
          <p:spPr>
            <a:xfrm>
              <a:off x="7740720" y="23572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442764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55600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4"/>
          <p:cNvGrpSpPr/>
          <p:nvPr/>
        </p:nvGrpSpPr>
        <p:grpSpPr>
          <a:xfrm>
            <a:off x="539640" y="3078000"/>
            <a:ext cx="8353440" cy="370800"/>
            <a:chOff x="539640" y="3078000"/>
            <a:chExt cx="8353440" cy="370800"/>
          </a:xfrm>
        </p:grpSpPr>
        <p:sp>
          <p:nvSpPr>
            <p:cNvPr id="251" name="Text Box 8"/>
            <p:cNvSpPr/>
            <p:nvPr/>
          </p:nvSpPr>
          <p:spPr>
            <a:xfrm>
              <a:off x="539640" y="3078000"/>
              <a:ext cx="180036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Tiamina (Vit. 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0"/>
            <p:cNvSpPr/>
            <p:nvPr/>
          </p:nvSpPr>
          <p:spPr>
            <a:xfrm>
              <a:off x="2843280" y="30780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>
              <a:off x="4859280" y="307800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"/>
            <p:cNvSpPr/>
            <p:nvPr/>
          </p:nvSpPr>
          <p:spPr>
            <a:xfrm>
              <a:off x="6877080" y="329364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7667640" y="30780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, 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58"/>
            <p:cNvSpPr/>
            <p:nvPr/>
          </p:nvSpPr>
          <p:spPr>
            <a:xfrm>
              <a:off x="2411280" y="32223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9"/>
            <p:cNvSpPr/>
            <p:nvPr/>
          </p:nvSpPr>
          <p:spPr>
            <a:xfrm>
              <a:off x="4356000" y="3293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76"/>
          <p:cNvGrpSpPr/>
          <p:nvPr/>
        </p:nvGrpSpPr>
        <p:grpSpPr>
          <a:xfrm>
            <a:off x="539640" y="4292640"/>
            <a:ext cx="8352000" cy="642600"/>
            <a:chOff x="539640" y="4292640"/>
            <a:chExt cx="8352000" cy="642600"/>
          </a:xfrm>
        </p:grpSpPr>
        <p:sp>
          <p:nvSpPr>
            <p:cNvPr id="259" name="Text Box 40"/>
            <p:cNvSpPr/>
            <p:nvPr/>
          </p:nvSpPr>
          <p:spPr>
            <a:xfrm>
              <a:off x="539640" y="4437000"/>
              <a:ext cx="1656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fól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1"/>
            <p:cNvSpPr/>
            <p:nvPr/>
          </p:nvSpPr>
          <p:spPr>
            <a:xfrm>
              <a:off x="2916360" y="4508640"/>
              <a:ext cx="1439640" cy="405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TH</a:t>
              </a:r>
              <a:r>
                <a:rPr b="1" lang="es-ES" sz="1800" spc="-1" strike="noStrike" baseline="-25000">
                  <a:solidFill>
                    <a:srgbClr val="ff505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859280" y="4292640"/>
              <a:ext cx="21589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   monocarbon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3"/>
            <p:cNvSpPr/>
            <p:nvPr/>
          </p:nvSpPr>
          <p:spPr>
            <a:xfrm>
              <a:off x="7524720" y="4292640"/>
              <a:ext cx="13669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Ser-Tre Deshidr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7093080" y="45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0"/>
            <p:cNvSpPr/>
            <p:nvPr/>
          </p:nvSpPr>
          <p:spPr>
            <a:xfrm>
              <a:off x="4500720" y="4653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3"/>
            <p:cNvSpPr/>
            <p:nvPr/>
          </p:nvSpPr>
          <p:spPr>
            <a:xfrm>
              <a:off x="2340000" y="4653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78"/>
          <p:cNvGrpSpPr/>
          <p:nvPr/>
        </p:nvGrpSpPr>
        <p:grpSpPr>
          <a:xfrm>
            <a:off x="611280" y="6021360"/>
            <a:ext cx="7993080" cy="642600"/>
            <a:chOff x="611280" y="6021360"/>
            <a:chExt cx="7993080" cy="642600"/>
          </a:xfrm>
        </p:grpSpPr>
        <p:sp>
          <p:nvSpPr>
            <p:cNvPr id="267" name="Text Box 36"/>
            <p:cNvSpPr/>
            <p:nvPr/>
          </p:nvSpPr>
          <p:spPr>
            <a:xfrm>
              <a:off x="611280" y="6093000"/>
              <a:ext cx="16570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2916360" y="60930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9"/>
            <p:cNvSpPr/>
            <p:nvPr/>
          </p:nvSpPr>
          <p:spPr>
            <a:xfrm>
              <a:off x="4932360" y="602136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50"/>
            <p:cNvSpPr/>
            <p:nvPr/>
          </p:nvSpPr>
          <p:spPr>
            <a:xfrm>
              <a:off x="6948360" y="638172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1"/>
            <p:cNvSpPr/>
            <p:nvPr/>
          </p:nvSpPr>
          <p:spPr>
            <a:xfrm>
              <a:off x="7812000" y="6165720"/>
              <a:ext cx="792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2"/>
            <p:cNvSpPr/>
            <p:nvPr/>
          </p:nvSpPr>
          <p:spPr>
            <a:xfrm>
              <a:off x="2484360" y="6237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4"/>
            <p:cNvSpPr/>
            <p:nvPr/>
          </p:nvSpPr>
          <p:spPr>
            <a:xfrm>
              <a:off x="4572000" y="6308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7"/>
          <p:cNvGrpSpPr/>
          <p:nvPr/>
        </p:nvGrpSpPr>
        <p:grpSpPr>
          <a:xfrm>
            <a:off x="539640" y="5157720"/>
            <a:ext cx="8352000" cy="642600"/>
            <a:chOff x="539640" y="5157720"/>
            <a:chExt cx="8352000" cy="642600"/>
          </a:xfrm>
        </p:grpSpPr>
        <p:sp>
          <p:nvSpPr>
            <p:cNvPr id="275" name="Text Box 20"/>
            <p:cNvSpPr/>
            <p:nvPr/>
          </p:nvSpPr>
          <p:spPr>
            <a:xfrm>
              <a:off x="539640" y="5229360"/>
              <a:ext cx="172872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Piridoxina (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1"/>
            <p:cNvSpPr/>
            <p:nvPr/>
          </p:nvSpPr>
          <p:spPr>
            <a:xfrm>
              <a:off x="2916360" y="52293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-piridox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2"/>
            <p:cNvSpPr/>
            <p:nvPr/>
          </p:nvSpPr>
          <p:spPr>
            <a:xfrm>
              <a:off x="4932360" y="5157720"/>
              <a:ext cx="201600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Transferencia grupos ami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3"/>
            <p:cNvSpPr/>
            <p:nvPr/>
          </p:nvSpPr>
          <p:spPr>
            <a:xfrm>
              <a:off x="7451640" y="5157720"/>
              <a:ext cx="144000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ransamin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7020000" y="5516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61"/>
            <p:cNvSpPr/>
            <p:nvPr/>
          </p:nvSpPr>
          <p:spPr>
            <a:xfrm>
              <a:off x="2340000" y="5373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5"/>
            <p:cNvSpPr/>
            <p:nvPr/>
          </p:nvSpPr>
          <p:spPr>
            <a:xfrm>
              <a:off x="4427640" y="5445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75"/>
          <p:cNvGrpSpPr/>
          <p:nvPr/>
        </p:nvGrpSpPr>
        <p:grpSpPr>
          <a:xfrm>
            <a:off x="395280" y="3654360"/>
            <a:ext cx="8353440" cy="511200"/>
            <a:chOff x="395280" y="3654360"/>
            <a:chExt cx="8353440" cy="511200"/>
          </a:xfrm>
        </p:grpSpPr>
        <p:sp>
          <p:nvSpPr>
            <p:cNvPr id="283" name="Text Box 47"/>
            <p:cNvSpPr/>
            <p:nvPr/>
          </p:nvSpPr>
          <p:spPr>
            <a:xfrm>
              <a:off x="395280" y="3797280"/>
              <a:ext cx="2232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9"/>
            <p:cNvSpPr/>
            <p:nvPr/>
          </p:nvSpPr>
          <p:spPr>
            <a:xfrm>
              <a:off x="2916360" y="379728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52"/>
            <p:cNvSpPr/>
            <p:nvPr/>
          </p:nvSpPr>
          <p:spPr>
            <a:xfrm>
              <a:off x="4932360" y="379728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3"/>
            <p:cNvSpPr/>
            <p:nvPr/>
          </p:nvSpPr>
          <p:spPr>
            <a:xfrm>
              <a:off x="6948360" y="3941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6"/>
            <p:cNvSpPr/>
            <p:nvPr/>
          </p:nvSpPr>
          <p:spPr>
            <a:xfrm>
              <a:off x="4572000" y="4014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7"/>
            <p:cNvSpPr/>
            <p:nvPr/>
          </p:nvSpPr>
          <p:spPr>
            <a:xfrm>
              <a:off x="2627280" y="4014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68"/>
            <p:cNvSpPr/>
            <p:nvPr/>
          </p:nvSpPr>
          <p:spPr>
            <a:xfrm>
              <a:off x="7740720" y="365436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84807"/>
                </a:solidFill>
                <a:latin typeface="Calibri"/>
              </a:rPr>
              <a:t>Enzimas que requieren iones metálicos como cofa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539640" y="1773360"/>
            <a:ext cx="244800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Cata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er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3419640" y="2133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5796000" y="1628640"/>
            <a:ext cx="144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ó 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50800" y="3357720"/>
            <a:ext cx="2592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Anhidrasa carb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350028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929200" y="3068640"/>
            <a:ext cx="1008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571680" y="5516640"/>
            <a:ext cx="2376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500280" y="5734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6143760" y="522936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71680" y="4076640"/>
            <a:ext cx="252072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Glucosa-6-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350028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6000840" y="4292640"/>
            <a:ext cx="1008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MPARTIMENTALIZACION: Diferente localización dentro de la célu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STEMAS MULTIENZIMATICOS: Enzimas relacionadas agrupadas formando verdaderos complejos  macromolec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NZIMAS MULTIFUNCIONALES: Una enzima que presenta distintos sitios catalít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0960" y="2725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84807"/>
                </a:solidFill>
                <a:latin typeface="Calibri"/>
              </a:rPr>
              <a:t>DISTRIBUCION DE LAS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¿Qué so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NZIM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son macromoléculas que tienen la capacidad de AUMENTAR LA VELOCIDAD de las reacciones, por ello se denominan 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  <a:ea typeface="Arial"/>
              </a:rPr>
              <a:t>catalizadores bi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ataliz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agente capaz de acelerar una reacción química, sin formar parte de los productos formados, ni desgastarse en el proc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CuadroTexto"/>
          <p:cNvSpPr/>
          <p:nvPr/>
        </p:nvSpPr>
        <p:spPr>
          <a:xfrm>
            <a:off x="500040" y="928800"/>
            <a:ext cx="8286840" cy="4480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de las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ENZIMAS (E)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PROTEÍN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 la excepción de un pequeño grupo de moléculas de RNA catalítico, llamadas </a:t>
            </a:r>
            <a:r>
              <a:rPr b="1" lang="es-AR" sz="3200" spc="-1" strike="noStrike">
                <a:solidFill>
                  <a:srgbClr val="00b050"/>
                </a:solidFill>
                <a:latin typeface="Arial"/>
              </a:rPr>
              <a:t>ribozimas.</a:t>
            </a:r>
            <a:r>
              <a:rPr b="0" lang="es-AR" sz="32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actividad catalítica depende de la integridad de su conformación proteica n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CuadroTexto"/>
          <p:cNvSpPr/>
          <p:nvPr/>
        </p:nvSpPr>
        <p:spPr>
          <a:xfrm>
            <a:off x="690840" y="214200"/>
            <a:ext cx="788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¿Cuál es la naturaleza química de las Enzi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85480" y="829800"/>
            <a:ext cx="8643960" cy="48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Las enzimas deben ser sintetizadas correctamente, con las estructuras proteicas: primaria, secundaria, terciaria y cuaternaria si la tuv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0099"/>
                </a:solidFill>
                <a:latin typeface="Arial"/>
                <a:ea typeface="Arial"/>
              </a:rPr>
              <a:t>Cualquier alteración de la síntesis de estas proteínas puede llevar a una patolog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990000"/>
                </a:solidFill>
                <a:latin typeface="Arial"/>
                <a:ea typeface="Arial"/>
              </a:rPr>
              <a:t>A veces estas alteraciones puede solucionarse con cambios en la dieta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sustancia sobre las cuales actúan se denominan </a:t>
            </a:r>
            <a:r>
              <a:rPr b="0" lang="es-ES" sz="3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USTRA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CuadroTexto"/>
          <p:cNvSpPr/>
          <p:nvPr/>
        </p:nvSpPr>
        <p:spPr>
          <a:xfrm>
            <a:off x="285840" y="1928880"/>
            <a:ext cx="8572320" cy="3229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Ningún ser vivo puede vivir sin l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La mayoría de las reacciones deben ser catalizadas para que ocurran en el tiempo y el momento que la célula lo requi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solidFill>
            <a:srgbClr val="d9d9d9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 fontScale="94000"/>
          </a:bodyPr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Transformación de moléculas de nutrientes simples en moléculas mas complejas, y vicever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Extracción de energía desde combustibles o compuestos degradables por oxid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Polimerización de subunidades para formar macromolécul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¿Qué funciones tiene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1142640"/>
            <a:ext cx="8229600" cy="4786200"/>
          </a:xfrm>
          <a:prstGeom prst="rect">
            <a:avLst/>
          </a:prstGeom>
          <a:solidFill>
            <a:srgbClr val="d9d9d9"/>
          </a:solidFill>
          <a:ln w="381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nsformación de moléculas complejas en moléculas simples y vice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Comic Sans MS"/>
              </a:rPr>
              <a:t>Ejemplos de transformaciones</a:t>
            </a:r>
            <a:br>
              <a:rPr sz="2900"/>
            </a:br>
            <a:r>
              <a:rPr b="0" lang="es-ES" sz="2900" spc="-1" strike="noStrike">
                <a:solidFill>
                  <a:srgbClr val="000000"/>
                </a:solidFill>
                <a:latin typeface="Comic Sans MS"/>
              </a:rPr>
              <a:t>mediadas por enzima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6"/>
          <p:cNvSpPr/>
          <p:nvPr/>
        </p:nvSpPr>
        <p:spPr>
          <a:xfrm>
            <a:off x="857160" y="2575080"/>
            <a:ext cx="1440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85880" y="3438360"/>
            <a:ext cx="143964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785880" y="4375080"/>
            <a:ext cx="143964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2513160" y="2646360"/>
            <a:ext cx="792000" cy="2303640"/>
          </a:xfrm>
          <a:custGeom>
            <a:avLst/>
            <a:gdLst>
              <a:gd name="textAreaLeft" fmla="*/ 0 w 792000"/>
              <a:gd name="textAreaRight" fmla="*/ 285840 w 792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62240" y="3149640"/>
            <a:ext cx="1656000" cy="100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M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4962600" y="3222720"/>
            <a:ext cx="863640" cy="217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000240" y="4807080"/>
            <a:ext cx="2394000" cy="693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6257880" y="4662360"/>
            <a:ext cx="2232000" cy="93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(GLUCOSA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5465520" y="502272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826240" y="2933640"/>
            <a:ext cx="2303280" cy="100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 (GL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 flipH="1">
            <a:off x="5393880" y="250200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5249880" y="2214720"/>
            <a:ext cx="1728720" cy="50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1"/>
          <p:cNvSpPr/>
          <p:nvPr/>
        </p:nvSpPr>
        <p:spPr>
          <a:xfrm>
            <a:off x="6834240" y="3870360"/>
            <a:ext cx="287280" cy="792000"/>
          </a:xfrm>
          <a:prstGeom prst="downArrow">
            <a:avLst>
              <a:gd name="adj1" fmla="val 50000"/>
              <a:gd name="adj2" fmla="val 68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6329520" y="4014720"/>
            <a:ext cx="1728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2"/>
          <p:cNvSpPr/>
          <p:nvPr/>
        </p:nvSpPr>
        <p:spPr>
          <a:xfrm>
            <a:off x="250920" y="765000"/>
            <a:ext cx="1800000" cy="863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NC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177840" y="1844640"/>
            <a:ext cx="1800360" cy="863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HIZ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34920" y="3068640"/>
            <a:ext cx="1943280" cy="86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HORI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050920" y="836640"/>
            <a:ext cx="576360" cy="3024000"/>
          </a:xfrm>
          <a:custGeom>
            <a:avLst/>
            <a:gdLst>
              <a:gd name="textAreaLeft" fmla="*/ 0 w 576360"/>
              <a:gd name="textAreaRight" fmla="*/ 208080 w 576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698920" y="1844640"/>
            <a:ext cx="172692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(T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1333440" y="4365720"/>
            <a:ext cx="2952720" cy="158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TRI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H="1">
            <a:off x="4429080" y="5111640"/>
            <a:ext cx="129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5508720" y="1413000"/>
            <a:ext cx="3024000" cy="151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500720" y="24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4500720" y="1989000"/>
            <a:ext cx="863280" cy="217800"/>
          </a:xfrm>
          <a:custGeom>
            <a:avLst/>
            <a:gdLst>
              <a:gd name="textAreaLeft" fmla="*/ 150840 w 863280"/>
              <a:gd name="textAreaRight" fmla="*/ 626040 w 863280"/>
              <a:gd name="textAreaTop" fmla="*/ 29160 h 217800"/>
              <a:gd name="textAreaBottom" fmla="*/ 188640 h 21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 flipH="1">
            <a:off x="5076360" y="126828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643280" y="907920"/>
            <a:ext cx="1729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7020000" y="299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6156360" y="3213000"/>
            <a:ext cx="1728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8"/>
          <p:cNvSpPr/>
          <p:nvPr/>
        </p:nvSpPr>
        <p:spPr>
          <a:xfrm>
            <a:off x="5796000" y="4076640"/>
            <a:ext cx="280836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I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+3 AC.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4143240" y="4429080"/>
            <a:ext cx="1729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8640" y="785520"/>
            <a:ext cx="8685360" cy="514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l nombre del sustrato o del producto, se le agrega la terminación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AR" sz="2400" spc="-1" strike="noStrike" u="sng">
                <a:solidFill>
                  <a:srgbClr val="0000ff"/>
                </a:solidFill>
                <a:uFillTx/>
                <a:latin typeface="Calibri"/>
              </a:rPr>
              <a:t>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Por ejemplo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sacarasa, ureasa, amilasa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or la reacción que catalizan, por ej.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oxidoreductasa, deshidrogenasa, descarboxilasa, etc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Otras tienen nombres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arbitrarios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, co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ptialina salival, pepsina del jugo gástrico, tripsina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ada enzima tiene un nombre y un numero asignado por la Comisión Internacional de Enzim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or ej.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Lactato deshidrogenas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EC 1.1.1.27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920" y="4320"/>
            <a:ext cx="8858160" cy="63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mic Sans MS"/>
              </a:rPr>
              <a:t>¿Cómo se denomina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395280" y="5859360"/>
            <a:ext cx="7951680" cy="1371600"/>
            <a:chOff x="395280" y="5859360"/>
            <a:chExt cx="7951680" cy="1371600"/>
          </a:xfrm>
        </p:grpSpPr>
        <p:sp>
          <p:nvSpPr>
            <p:cNvPr id="128" name="Text Box 24"/>
            <p:cNvSpPr/>
            <p:nvPr/>
          </p:nvSpPr>
          <p:spPr>
            <a:xfrm>
              <a:off x="785880" y="6215040"/>
              <a:ext cx="7561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5"/>
            <p:cNvSpPr/>
            <p:nvPr/>
          </p:nvSpPr>
          <p:spPr>
            <a:xfrm>
              <a:off x="395280" y="5859360"/>
              <a:ext cx="748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07:57:39Z</dcterms:created>
  <dc:creator>ali y facu</dc:creator>
  <dc:description/>
  <dc:language>en-US</dc:language>
  <cp:lastModifiedBy>ali y facu</cp:lastModifiedBy>
  <dcterms:modified xsi:type="dcterms:W3CDTF">2014-08-27T23:55:21Z</dcterms:modified>
  <cp:revision>30</cp:revision>
  <dc:subject/>
  <dc:title>Diapositiva 1</dc:title>
</cp:coreProperties>
</file>